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6.png" ContentType="image/png"/>
  <Override PartName="/ppt/media/image23.jpeg" ContentType="image/jpeg"/>
  <Override PartName="/ppt/media/image2.jpeg" ContentType="image/jpeg"/>
  <Override PartName="/ppt/media/image7.png" ContentType="image/png"/>
  <Override PartName="/ppt/media/image22.jpeg" ContentType="image/jpeg"/>
  <Override PartName="/ppt/media/image3.png" ContentType="image/png"/>
  <Override PartName="/ppt/media/whoosh.wav" ContentType="audio/x-wav"/>
  <Override PartName="/ppt/media/image8.wmf" ContentType="image/x-wmf"/>
  <Override PartName="/ppt/media/image13.wmf" ContentType="image/x-wmf"/>
  <Override PartName="/ppt/media/image27.jpeg" ContentType="image/jpeg"/>
  <Override PartName="/ppt/media/image5.png" ContentType="image/png"/>
  <Override PartName="/ppt/media/applause.wav" ContentType="audio/x-wav"/>
  <Override PartName="/ppt/media/image9.wmf" ContentType="image/x-wmf"/>
  <Override PartName="/ppt/media/image4.png" ContentType="image/png"/>
  <Override PartName="/ppt/media/image12.wmf" ContentType="image/x-wmf"/>
  <Override PartName="/ppt/media/image1.png" ContentType="image/png"/>
  <Override PartName="/ppt/media/image10.wmf" ContentType="image/x-wmf"/>
  <Override PartName="/ppt/media/image14.gif" ContentType="image/gif"/>
  <Override PartName="/ppt/media/image17.png" ContentType="image/png"/>
  <Override PartName="/ppt/media/image11.wmf" ContentType="image/x-wmf"/>
  <Override PartName="/ppt/media/image15.gif" ContentType="image/gif"/>
  <Override PartName="/ppt/media/type.wav" ContentType="audio/x-wav"/>
  <Override PartName="/ppt/media/image18.png" ContentType="image/png"/>
  <Override PartName="/ppt/media/image16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D863-06FC-4363-BB7F-E3EE0AC9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6C0C-D49B-4CE0-8C05-6BA6677D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4A23-0625-4C5E-B40A-D2970E54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2DB2-C93B-4A4B-9360-B0F31451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085B-3ECE-416D-8208-DB34CE83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ADE-368E-40DB-A4E3-317D0CE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D88A-740E-4FFF-8559-BC06122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01A-D864-4126-8A0B-2C020525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E19C-6484-4AE4-95B4-C7AC831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6FA-8DD8-47A2-AF3F-4745B2E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6550-7D4D-43FA-BE1F-13FAFD0B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13F56-AEF5-4F85-A327-7D75494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875-D07D-4D59-8F69-1E4B9DC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869-CBDE-425E-8EEF-A6FE285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22F4-D555-4702-B198-661B69C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6A1-4226-4128-BF68-0A38554E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66F1-971C-45EA-A7F8-8EE705FD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2465-A37F-4352-AB01-BA82E77D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B4F2-27D8-44E7-A053-17F4CBBC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D29F-1C24-4214-8E92-52AACB5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A5AD-3150-4200-B02B-11E8D76A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CAC5-D040-4D2F-BA14-C548024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062F-7EEE-4CD2-A9F7-6C2CD07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CBAC-1527-462B-9A4F-934928F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7FA0-B307-4317-BEE2-E62F6C363136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6166-28FF-4361-82AF-807BDA2E8118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:/Bran_RaduJ/filme/Louis%20Armstrong-What%20a%20Wonderfull%20World.avi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4232160"/>
            <a:ext cx="3353040" cy="2625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18288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OIECTAREA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FTULUI EDUCA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ONAL – CONSIDERA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ENER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53341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roiectul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rofesorul – creator de soft educaţiona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00"/>
                </a:solidFill>
                <a:latin typeface="Arial"/>
              </a:rPr>
              <a:t>POSDRU/57/1.3/S/34533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9" name="Picture 5" descr="C:\Documents and Settings\ionutm\Desktop\Semnatura compusa v3.JPG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iţi constienţi de importanţa imaginii de pe ecran: este “</a:t>
            </a:r>
            <a:r>
              <a:rPr b="0" lang="ro-RO" sz="3200" spc="-1" strike="noStrike" u="sng">
                <a:solidFill>
                  <a:srgbClr val="333300"/>
                </a:solidFill>
                <a:uFillTx/>
                <a:latin typeface="Arial"/>
                <a:hlinkClick r:id="rId1" action="ppaction://hlinksldjump"/>
              </a:rPr>
              <a:t>look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-ul” softului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333300"/>
                </a:solidFill>
                <a:uFillTx/>
                <a:latin typeface="Arial"/>
                <a:hlinkClick r:id="rId2" action="ppaction://hlinksldjump"/>
              </a:rPr>
              <a:t>Nu îngrămădiţi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cranul: el trebuie să fie un suport al învăţării,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     nu un distractor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6-Point Star 3"/>
          <p:cNvSpPr/>
          <p:nvPr/>
        </p:nvSpPr>
        <p:spPr>
          <a:xfrm rot="871800">
            <a:off x="5032080" y="3554280"/>
            <a:ext cx="4014720" cy="3262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Coerenţă, echilibru, predictibilitate, simplitate, funcţionalit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7" name="Picture 195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6767640"/>
            <a:chOff x="0" y="0"/>
            <a:chExt cx="9144000" cy="6767640"/>
          </a:xfrm>
        </p:grpSpPr>
        <p:pic>
          <p:nvPicPr>
            <p:cNvPr id="149" name="Picture 6" descr="C:\Program Files\Common Files\Microsoft Shared\Clipart\cagcat50\SO01862_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76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2"/>
            <p:cNvSpPr/>
            <p:nvPr/>
          </p:nvSpPr>
          <p:spPr>
            <a:xfrm>
              <a:off x="1523880" y="380880"/>
              <a:ext cx="7010640" cy="7621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00"/>
                  </a:solidFill>
                  <a:latin typeface="Bookman Old Style"/>
                </a:rPr>
                <a:t>Sunt artist</a:t>
              </a:r>
              <a:r>
                <a:rPr b="1" lang="ro-RO" sz="4800" spc="-1" strike="noStrike">
                  <a:solidFill>
                    <a:srgbClr val="003300"/>
                  </a:solidFill>
                  <a:latin typeface="Bookman Old Style"/>
                </a:rPr>
                <a:t>!!!</a:t>
              </a:r>
              <a:endParaRPr b="0" lang="en-US" sz="4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151" name="Picture 4" descr="C:\Program Files\Common Files\Microsoft Shared\Clipart\cagcat50\PE03166_.wmf"/>
            <p:cNvPicPr/>
            <p:nvPr/>
          </p:nvPicPr>
          <p:blipFill>
            <a:blip r:embed="rId2"/>
            <a:stretch/>
          </p:blipFill>
          <p:spPr>
            <a:xfrm>
              <a:off x="2133720" y="3200400"/>
              <a:ext cx="234612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C:\Program Files\Common Files\Microsoft Shared\Clipart\cagcat50\AN02097_.wmf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2965680" cy="34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7" descr="C:\Program Files\Common Files\Microsoft Shared\Clipart\cagcat50\BD05584_.WMF"/>
            <p:cNvPicPr/>
            <p:nvPr/>
          </p:nvPicPr>
          <p:blipFill>
            <a:blip r:embed="rId4"/>
            <a:stretch/>
          </p:blipFill>
          <p:spPr>
            <a:xfrm>
              <a:off x="5943600" y="1219320"/>
              <a:ext cx="258912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" descr="C:\Program Files\Common Files\Microsoft Shared\Clipart\cagcat50\PE02622_.wmf"/>
            <p:cNvPicPr/>
            <p:nvPr/>
          </p:nvPicPr>
          <p:blipFill>
            <a:blip r:embed="rId5"/>
            <a:stretch/>
          </p:blipFill>
          <p:spPr>
            <a:xfrm>
              <a:off x="4495680" y="3505320"/>
              <a:ext cx="189864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9" descr="C:\Program Files\Common Files\Microsoft Shared\Clipart\cagcat50\BD06455_.WMF"/>
            <p:cNvPicPr/>
            <p:nvPr/>
          </p:nvPicPr>
          <p:blipFill>
            <a:blip r:embed="rId6"/>
            <a:stretch/>
          </p:blipFill>
          <p:spPr>
            <a:xfrm>
              <a:off x="4191120" y="1219320"/>
              <a:ext cx="1888920" cy="187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veţi un inventar de modalităţi de atragere a atenţiei asupra unor anumite informaţii?* Folosiţi-le de o manieră uniform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6-Point Star 3">
            <a:hlinkClick r:id="rId1" action="ppaction://hlinksldjump"/>
          </p:cNvPr>
          <p:cNvSpPr/>
          <p:nvPr/>
        </p:nvSpPr>
        <p:spPr>
          <a:xfrm rot="587400">
            <a:off x="4800240" y="3580920"/>
            <a:ext cx="3733920" cy="32767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Nu utili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m elemente multimedia 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“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gratuit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”! 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lementele multimedia trebuie să susţină şi să sporească înţelegerea temei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050"/>
          <p:cNvSpPr/>
          <p:nvPr/>
        </p:nvSpPr>
        <p:spPr>
          <a:xfrm>
            <a:off x="1981080" y="914400"/>
            <a:ext cx="634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What? Acu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 doar ce am descoperit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fleşu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lang="ro-RO" sz="4400" spc="-1" strike="noStrike">
                <a:solidFill>
                  <a:srgbClr val="003300"/>
                </a:solidFill>
                <a:latin typeface="Arial"/>
              </a:rPr>
              <a:t>!!!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Rectangle 2051"/>
          <p:cNvSpPr/>
          <p:nvPr/>
        </p:nvSpPr>
        <p:spPr>
          <a:xfrm>
            <a:off x="5129280" y="251460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0000"/>
          </a:bodyPr>
          <a:p>
            <a:pPr marL="129960" indent="-129960">
              <a:spcBef>
                <a:spcPts val="10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o-RO" sz="4000" spc="-1" strike="noStrike">
                <a:solidFill>
                  <a:srgbClr val="0099cc"/>
                </a:solidFill>
                <a:latin typeface="Arial"/>
              </a:rPr>
              <a:t>s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t</a:t>
            </a:r>
            <a:r>
              <a:rPr b="0" lang="ro-RO" sz="4000" spc="-1" strike="noStrike">
                <a:solidFill>
                  <a:srgbClr val="00ff00"/>
                </a:solidFill>
                <a:latin typeface="Arial"/>
              </a:rPr>
              <a:t>e</a:t>
            </a:r>
            <a:r>
              <a:rPr b="0" lang="ro-RO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ff99"/>
                </a:solidFill>
                <a:latin typeface="Arial"/>
              </a:rPr>
              <a:t>o</a:t>
            </a:r>
            <a:r>
              <a:rPr b="0" lang="ro-RO" sz="4000" spc="-1" strike="noStrike">
                <a:solidFill>
                  <a:srgbClr val="008000"/>
                </a:solidFill>
                <a:latin typeface="Arial"/>
              </a:rPr>
              <a:t>a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t</a:t>
            </a:r>
            <a:r>
              <a:rPr b="0" lang="ro-RO" sz="4000" spc="-1" strike="noStrike">
                <a:solidFill>
                  <a:srgbClr val="003300"/>
                </a:solidFill>
                <a:latin typeface="Arial"/>
              </a:rPr>
              <a:t>e 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u</a:t>
            </a:r>
            <a:r>
              <a:rPr b="0" lang="ro-RO" sz="4000" spc="-1" strike="noStrike">
                <a:solidFill>
                  <a:srgbClr val="99cc00"/>
                </a:solidFill>
                <a:latin typeface="Arial"/>
              </a:rPr>
              <a:t>m</a:t>
            </a:r>
            <a:r>
              <a:rPr b="0" lang="ro-RO" sz="40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ro-RO" sz="4000" spc="-1" strike="noStrike">
                <a:solidFill>
                  <a:srgbClr val="66cc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Rectangle 2052"/>
          <p:cNvSpPr/>
          <p:nvPr/>
        </p:nvSpPr>
        <p:spPr>
          <a:xfrm>
            <a:off x="709560" y="3200400"/>
            <a:ext cx="312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Arial Unicode MS"/>
              </a:rPr>
              <a:t>C</a:t>
            </a:r>
            <a:r>
              <a:rPr b="1" lang="ro-RO" sz="2800" spc="-1" strike="noStrike">
                <a:solidFill>
                  <a:srgbClr val="cc3300"/>
                </a:solidFill>
                <a:latin typeface="DFKai-SB"/>
              </a:rPr>
              <a:t>hi</a:t>
            </a:r>
            <a:r>
              <a:rPr b="1" lang="ro-RO" sz="2800" spc="-1" strike="noStrike">
                <a:solidFill>
                  <a:srgbClr val="cc3300"/>
                </a:solidFill>
                <a:latin typeface="FrankRuehl"/>
              </a:rPr>
              <a:t>a</a:t>
            </a:r>
            <a:r>
              <a:rPr b="1" lang="ro-RO" sz="2800" spc="-1" strike="noStrike">
                <a:solidFill>
                  <a:srgbClr val="cc3300"/>
                </a:solidFill>
                <a:latin typeface="DFKai-SB"/>
              </a:rPr>
              <a:t>r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cc3300"/>
                </a:solidFill>
                <a:latin typeface="Sydnie"/>
              </a:rPr>
              <a:t>m</a:t>
            </a:r>
            <a:r>
              <a:rPr b="1" lang="ro-RO" sz="2800" spc="-1" strike="noStrike">
                <a:solidFill>
                  <a:srgbClr val="cc3300"/>
                </a:solidFill>
                <a:latin typeface="Euphemia"/>
              </a:rPr>
              <a:t>ă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cc3300"/>
                </a:solidFill>
                <a:latin typeface="Andalus"/>
              </a:rPr>
              <a:t>p</a:t>
            </a:r>
            <a:r>
              <a:rPr b="1" lang="ro-RO" sz="2800" spc="-1" strike="noStrike">
                <a:solidFill>
                  <a:srgbClr val="cc3300"/>
                </a:solidFill>
                <a:latin typeface="Arabic Typesetting"/>
              </a:rPr>
              <a:t>r</a:t>
            </a:r>
            <a:r>
              <a:rPr b="1" lang="ro-RO" sz="2800" spc="-1" strike="noStrike">
                <a:solidFill>
                  <a:srgbClr val="cc3300"/>
                </a:solidFill>
                <a:latin typeface="Haettenschweiler"/>
              </a:rPr>
              <a:t>ic</a:t>
            </a:r>
            <a:r>
              <a:rPr b="1" lang="ro-RO" sz="2800" spc="-1" strike="noStrike">
                <a:solidFill>
                  <a:srgbClr val="cc3300"/>
                </a:solidFill>
                <a:latin typeface="Lucida Sans Unicode"/>
              </a:rPr>
              <a:t>e</a:t>
            </a:r>
            <a:r>
              <a:rPr b="1" lang="ro-RO" sz="2800" spc="-1" strike="noStrike">
                <a:solidFill>
                  <a:srgbClr val="cc3300"/>
                </a:solidFill>
                <a:latin typeface="Segoe Script"/>
              </a:rPr>
              <a:t>p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Rectangle 2053"/>
          <p:cNvSpPr/>
          <p:nvPr/>
        </p:nvSpPr>
        <p:spPr>
          <a:xfrm>
            <a:off x="3681360" y="41148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3300"/>
                </a:solidFill>
                <a:latin typeface="Garamond"/>
              </a:rPr>
              <a:t>CARE AR FI MAI CLAR</a:t>
            </a: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Garamond"/>
              </a:rPr>
              <a:t>Care ar fi mai clar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cc3300"/>
                </a:solidFill>
                <a:latin typeface="Garamond"/>
              </a:rPr>
              <a:t>Care ar fi mai clar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Rectangle 2054"/>
          <p:cNvSpPr/>
          <p:nvPr/>
        </p:nvSpPr>
        <p:spPr>
          <a:xfrm>
            <a:off x="709560" y="571500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3300"/>
                </a:solidFill>
                <a:latin typeface="Microsoft Sans Serif"/>
              </a:rPr>
              <a:t>Sans_Serif, sans_seri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185760" indent="-185760">
              <a:lnSpc>
                <a:spcPct val="110000"/>
              </a:lnSpc>
              <a:spcBef>
                <a:spcPts val="1400"/>
              </a:spcBef>
              <a:buClr>
                <a:srgbClr val="00cc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3300"/>
                </a:solidFill>
                <a:latin typeface="Palatino Linotype"/>
              </a:rPr>
              <a:t>Seri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04920" y="380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…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și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vreau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cu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 claritate să vă enervez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!!!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5" name="Picture 4" descr="C:\Program Files\Common Files\Microsoft Shared\Clipart\themes1\Bullets\BD15018_.GIF"/>
          <p:cNvPicPr/>
          <p:nvPr/>
        </p:nvPicPr>
        <p:blipFill>
          <a:blip r:embed="rId1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Program Files\Common Files\Microsoft Shared\Clipart\themes1\Bullets\BD10253_.GIF"/>
          <p:cNvPicPr/>
          <p:nvPr/>
        </p:nvPicPr>
        <p:blipFill>
          <a:blip r:embed="rId2"/>
          <a:stretch/>
        </p:blipFill>
        <p:spPr>
          <a:xfrm>
            <a:off x="6477120" y="15238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Butterfly.wmv" descr=""/>
          <p:cNvPicPr/>
          <p:nvPr/>
        </p:nvPicPr>
        <p:blipFill>
          <a:blip r:embed="rId3"/>
          <a:stretch/>
        </p:blipFill>
        <p:spPr>
          <a:xfrm>
            <a:off x="4191120" y="35053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FingerprintSuccess.wav" descr=""/>
          <p:cNvPicPr/>
          <p:nvPr/>
        </p:nvPicPr>
        <p:blipFill>
          <a:blip r:embed="rId5"/>
          <a:stretch/>
        </p:blipFill>
        <p:spPr>
          <a:xfrm>
            <a:off x="4038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2971800" y="5029200"/>
            <a:ext cx="990720" cy="1438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581040" y="569916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5f5f5f"/>
                </a:solidFill>
                <a:latin typeface="Bookman Old Style"/>
              </a:rPr>
              <a:t>O fi bine aş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48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488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99"/>
                </a:solidFill>
                <a:latin typeface="Arial"/>
              </a:rPr>
              <a:t>În modul de prezentare (texte, grafice, imagini fixe/animate, audio, video) care susţine învăţarea, culorile sunt folosite adecvat?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(De ex.,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Rosul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şi 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albastrul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, fiind la extremele spectrului vizibil, sunt culorile cele mai dificil de perceput!)*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4. 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MAGINEA DE SUPRA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Ă/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INTERFA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Ţ</a:t>
            </a:r>
            <a:r>
              <a:rPr b="1" lang="pt-BR" sz="3900" spc="-1" strike="noStrike">
                <a:solidFill>
                  <a:srgbClr val="00cc00"/>
                </a:solidFill>
                <a:latin typeface="Bookman Old Style"/>
              </a:rPr>
              <a:t>A VIZIBILĂ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um aţi gândit controlul pe care elevul îl va avea asupra programului? În afară de reacţiile determinate de parcurgerea “standard” a programului, se oferă şi un control funcţional – întreruperea (cu reluare amânată), întoarcerea la o secvenţă parcursă, accesarea unui “help”, vizualizarea distanţei parcurs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6-Point Star 3"/>
          <p:cNvSpPr/>
          <p:nvPr/>
        </p:nvSpPr>
        <p:spPr>
          <a:xfrm rot="648000">
            <a:off x="5257800" y="2742840"/>
            <a:ext cx="3886200" cy="38862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Pe parcursul lecţiei permitem reluarea rezolvării sarcinilor de lucru, oferind multiple variante pe aceeaşi sarcină de lucru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5. EVALUAREA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Este important să diferenţiem evaluarea </a:t>
            </a:r>
            <a:r>
              <a:rPr b="1" lang="ro-RO" sz="2800" spc="-1" strike="noStrike" u="sng">
                <a:solidFill>
                  <a:srgbClr val="003300"/>
                </a:solidFill>
                <a:uFillTx/>
                <a:latin typeface="Arial"/>
              </a:rPr>
              <a:t>formativă</a:t>
            </a: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 /pe parcurs, de evaluarea </a:t>
            </a:r>
            <a:r>
              <a:rPr b="1" lang="ro-RO" sz="2800" spc="-1" strike="noStrike" u="sng">
                <a:solidFill>
                  <a:srgbClr val="003300"/>
                </a:solidFill>
                <a:uFillTx/>
                <a:latin typeface="Arial"/>
              </a:rPr>
              <a:t>sumativă</a:t>
            </a: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 prin care se marchează nivelul de performanţă reuşit de elev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Ar fi util să încercaţi a construi itemii de control / evaluare formativă de o manieră gradată, luând ca scală ierarhică secvenţe din </a:t>
            </a:r>
            <a:r>
              <a:rPr b="1" lang="ro-RO" sz="2800" spc="-1" strike="noStrike">
                <a:solidFill>
                  <a:srgbClr val="003300"/>
                </a:solidFill>
                <a:latin typeface="Arial"/>
              </a:rPr>
              <a:t>taxonomia Bloom-Anders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5. EVALUAREA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Oferim </a:t>
            </a: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feed-back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explicativ pentru fiecare sarcină de lucru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eedback-ul poate conţine şi un diagnostic, cu direcţionare către suportul teoretic/exemplificativ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6-Point Star 3"/>
          <p:cNvSpPr/>
          <p:nvPr/>
        </p:nvSpPr>
        <p:spPr>
          <a:xfrm rot="1480200">
            <a:off x="5219280" y="3390480"/>
            <a:ext cx="3505320" cy="3505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În cazul unui feed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-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back negativ, oferim acces la indicaţii de r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olvare, care să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-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l ghid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 pe elev către soluţie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00"/>
                </a:solidFill>
                <a:latin typeface="Bookman Old Style"/>
              </a:rPr>
              <a:t>PROIECTAREA PEDAGOGICĂ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3174840"/>
            <a:ext cx="3971880" cy="3683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2133720"/>
            <a:ext cx="6705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RECOMANDĂRI GENERALE –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JALOANE</a:t>
            </a:r>
            <a:r>
              <a:rPr b="1" lang="ro-RO" sz="3200" spc="-1" strike="noStrike">
                <a:solidFill>
                  <a:srgbClr val="00cc00"/>
                </a:solidFill>
                <a:latin typeface="Bookman Old Style"/>
              </a:rPr>
              <a:t> </a:t>
            </a:r>
            <a:r>
              <a:rPr b="1" lang="it-IT" sz="3200" spc="-1" strike="noStrike">
                <a:solidFill>
                  <a:srgbClr val="00cc00"/>
                </a:solidFill>
                <a:latin typeface="Bookman Old Style"/>
              </a:rPr>
              <a:t>ORIENTATI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JOCUL DIDACTIC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Mizăm pe valenţele educative şi atractivitatea jocului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6-Point Star 3"/>
          <p:cNvSpPr/>
          <p:nvPr/>
        </p:nvSpPr>
        <p:spPr>
          <a:xfrm flipH="1" flipV="1" rot="11284800">
            <a:off x="5528520" y="2980080"/>
            <a:ext cx="3408480" cy="315756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Georgia"/>
                <a:ea typeface="Arial"/>
              </a:rPr>
              <a:t>Oriunde este posibil, introducem un joc didactic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Bookman Old Style"/>
              </a:rPr>
              <a:t>HELP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Inter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xtern (manualul profesorului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6-Point Star 3"/>
          <p:cNvSpPr/>
          <p:nvPr/>
        </p:nvSpPr>
        <p:spPr>
          <a:xfrm rot="499800">
            <a:off x="5560560" y="3203640"/>
            <a:ext cx="3353040" cy="34290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Trebuie s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 oferim indicaţii de utilizare didactică şi funcţională a aplicaţiei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600200" y="7621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REGULILE DE BAZĂ ..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762120" y="1905120"/>
            <a:ext cx="7731000" cy="4084560"/>
            <a:chOff x="762120" y="1905120"/>
            <a:chExt cx="7731000" cy="4084560"/>
          </a:xfrm>
        </p:grpSpPr>
        <p:pic>
          <p:nvPicPr>
            <p:cNvPr id="190" name="Picture 20" descr="C:\Users\raduj\Documents\Curs_prezentari\Curs_Sesiune_II\IMG\Curs_III\simplu.jpg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23968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1" descr="C:\Users\raduj\Documents\Curs_prezentari\Curs_Sesiune_II\IMG\Curs_III\unexpect.jpg"/>
            <p:cNvPicPr/>
            <p:nvPr/>
          </p:nvPicPr>
          <p:blipFill>
            <a:blip r:embed="rId2"/>
            <a:stretch/>
          </p:blipFill>
          <p:spPr>
            <a:xfrm>
              <a:off x="3429000" y="1905120"/>
              <a:ext cx="24033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2" descr="C:\Users\raduj\Documents\Curs_prezentari\Curs_Sesiune_II\IMG\Curs_III\concret.jpg"/>
            <p:cNvPicPr/>
            <p:nvPr/>
          </p:nvPicPr>
          <p:blipFill>
            <a:blip r:embed="rId3"/>
            <a:stretch/>
          </p:blipFill>
          <p:spPr>
            <a:xfrm>
              <a:off x="6095880" y="1905120"/>
              <a:ext cx="239724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3" descr="C:\Users\raduj\Documents\Curs_prezentari\Curs_Sesiune_II\IMG\Curs_III\credibil.jpg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39688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4" descr="C:\Users\raduj\Documents\Curs_prezentari\Curs_Sesiune_II\IMG\Curs_III\emotion.jpg"/>
            <p:cNvPicPr/>
            <p:nvPr/>
          </p:nvPicPr>
          <p:blipFill>
            <a:blip r:embed="rId5"/>
            <a:stretch/>
          </p:blipFill>
          <p:spPr>
            <a:xfrm>
              <a:off x="3429000" y="4191120"/>
              <a:ext cx="2403360" cy="17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5" descr="C:\Users\raduj\Documents\Curs_prezentari\Curs_Sesiune_II\IMG\Curs_III\poveste.jpg"/>
            <p:cNvPicPr/>
            <p:nvPr/>
          </p:nvPicPr>
          <p:blipFill>
            <a:blip r:embed="rId6"/>
            <a:stretch/>
          </p:blipFill>
          <p:spPr>
            <a:xfrm>
              <a:off x="6095880" y="4191120"/>
              <a:ext cx="239724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Î</a:t>
            </a:r>
            <a:r>
              <a:rPr b="1" lang="it-IT" sz="4400" spc="-1" strike="noStrike">
                <a:solidFill>
                  <a:srgbClr val="00cc00"/>
                </a:solidFill>
                <a:latin typeface="Bookman Old Style"/>
              </a:rPr>
              <a:t>N CONCLUZI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00"/>
                </a:solidFill>
                <a:latin typeface="Arial"/>
              </a:rPr>
              <a:t>...avem nevoie de atitudine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8" name="Picture 5" descr="louis_armstro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36920"/>
            <a:ext cx="3230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0"/>
          <p:cNvGrpSpPr/>
          <p:nvPr/>
        </p:nvGrpSpPr>
        <p:grpSpPr>
          <a:xfrm>
            <a:off x="533520" y="2133720"/>
            <a:ext cx="6858000" cy="4839840"/>
            <a:chOff x="533520" y="2133720"/>
            <a:chExt cx="6858000" cy="4839840"/>
          </a:xfrm>
        </p:grpSpPr>
        <p:pic>
          <p:nvPicPr>
            <p:cNvPr id="200" name="Picture 5" descr="platoaristo"/>
            <p:cNvPicPr/>
            <p:nvPr/>
          </p:nvPicPr>
          <p:blipFill>
            <a:blip r:embed="rId1"/>
            <a:stretch/>
          </p:blipFill>
          <p:spPr>
            <a:xfrm>
              <a:off x="533520" y="2133720"/>
              <a:ext cx="3124080" cy="40510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01" name="Text Box 6"/>
            <p:cNvSpPr/>
            <p:nvPr/>
          </p:nvSpPr>
          <p:spPr>
            <a:xfrm>
              <a:off x="3962520" y="2743200"/>
              <a:ext cx="3429000" cy="42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	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…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se va recunoa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ş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te ce am realizat 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ş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i se va ierta ceea ce am l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sat altora s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 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î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ndeplineasc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</a:rPr>
                <a:t>ă</a:t>
              </a:r>
              <a:r>
                <a:rPr b="1" i="1" lang="ro-RO" sz="24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5f5f5f"/>
                  </a:solidFill>
                  <a:latin typeface="SIVECO Office"/>
                  <a:ea typeface="Times New Roman"/>
                </a:rPr>
                <a:t>Aristotel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pic>
        <p:nvPicPr>
          <p:cNvPr id="202" name="Picture 3" descr="C:\Documents and Settings\raduj\My Documents\new\e-learning.jpg"/>
          <p:cNvPicPr/>
          <p:nvPr/>
        </p:nvPicPr>
        <p:blipFill>
          <a:blip r:embed="rId2"/>
          <a:stretch/>
        </p:blipFill>
        <p:spPr>
          <a:xfrm>
            <a:off x="7238880" y="762120"/>
            <a:ext cx="180504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5715000" y="3048120"/>
            <a:ext cx="3200400" cy="3352680"/>
          </a:xfrm>
          <a:custGeom>
            <a:avLst/>
            <a:gdLst>
              <a:gd name="textAreaLeft" fmla="*/ 521280 w 3200400"/>
              <a:gd name="textAreaRight" fmla="*/ 2772000 w 3200400"/>
              <a:gd name="textAreaTop" fmla="*/ 2724120 h 3352680"/>
              <a:gd name="textAreaBottom" fmla="*/ 29037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20443"/>
                </a:moveTo>
                <a:lnTo>
                  <a:pt x="17550" y="20443"/>
                </a:lnTo>
                <a:lnTo>
                  <a:pt x="17550" y="3518"/>
                </a:lnTo>
                <a:lnTo>
                  <a:pt x="14657" y="3518"/>
                </a:lnTo>
                <a:lnTo>
                  <a:pt x="18129" y="0"/>
                </a:lnTo>
                <a:lnTo>
                  <a:pt x="21600" y="3518"/>
                </a:lnTo>
                <a:lnTo>
                  <a:pt x="18707" y="3518"/>
                </a:lnTo>
                <a:lnTo>
                  <a:pt x="187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Etapele principale ale P.S.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333300"/>
                </a:solidFill>
                <a:uFillTx/>
                <a:latin typeface="Arial"/>
                <a:hlinkClick r:id="rId1" action="ppaction://hlinksldjump"/>
              </a:rPr>
              <a:t>Proiectarea pedagogică </a:t>
            </a: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(design educaţional)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Definirea strategiei educaţiona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00"/>
                </a:solidFill>
                <a:latin typeface="Arial"/>
              </a:rPr>
              <a:t>Realizarea informatică/         grafică/ interfaţ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2320" y="3429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6-Point Star 3"/>
          <p:cNvSpPr/>
          <p:nvPr/>
        </p:nvSpPr>
        <p:spPr>
          <a:xfrm rot="871800">
            <a:off x="5263920" y="3568320"/>
            <a:ext cx="3879720" cy="328932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Alegeţ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Georgia"/>
                <a:ea typeface="Arial"/>
              </a:rPr>
              <a:t>din bogata arie a tehnologiilor care ar putea deveni suportul tehnic al unui soft educaţional,  pe cel corespunzător scopului urmărit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Recomandări general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3300"/>
                </a:solidFill>
                <a:latin typeface="Arial"/>
              </a:rPr>
              <a:t>vizează elementele din: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pedagogiei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disciplinară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comunicaţională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evaluarea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feedback-ul,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aria funcţional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ste util un soft educa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ţional pentru această temă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 De ce?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 elemente ale temei ar fi mai u</a:t>
            </a: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şor de învăţat cu ajutorul softului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3300"/>
                </a:solidFill>
                <a:latin typeface="Arial"/>
              </a:rPr>
              <a:t>Ce aduc nou în abordarea temei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6-Point Star 3"/>
          <p:cNvSpPr/>
          <p:nvPr/>
        </p:nvSpPr>
        <p:spPr>
          <a:xfrm rot="21337200">
            <a:off x="5816160" y="4129200"/>
            <a:ext cx="3327480" cy="27288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Softul educaţional nu este şi nu înlocuieşte manualul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00"/>
                </a:solidFill>
                <a:latin typeface="Arial"/>
              </a:rPr>
              <a:t>Alegerea temei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96960" cy="87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696960" cy="87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696960" cy="871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Primul pas ar trebui să-l constituie o verificare a cunoasterii grupului-ţintă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Puteţi enumera trei caracteristici ale populaţiei de elevi cărora le este adresat softul dv.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Utilizarea computerului nu mai poate reprezenta în sine o motivaţie pentru elev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e tehnici motivante aţi gândit să folosiţi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Interacţiunea* îi oferă elevului oportunităţi pentru a reacţiona la un conţinut disciplinar.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um gândiţi să variaţi interacţiunea şi să asiguraţi frecvenţa ei? O puteţi realiza corelată/ dependentă de obiectiv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00"/>
                </a:solidFill>
                <a:latin typeface="Bookman Old Style"/>
              </a:rPr>
              <a:t>1. </a:t>
            </a:r>
            <a:r>
              <a:rPr b="1" lang="ro-RO" sz="4400" spc="-1" strike="noStrike">
                <a:solidFill>
                  <a:srgbClr val="00cc00"/>
                </a:solidFill>
                <a:latin typeface="Bookman Old Style"/>
              </a:rPr>
              <a:t>ARIA PEDAGOGICĂ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46483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3300"/>
                </a:solidFill>
                <a:latin typeface="Arial"/>
              </a:rPr>
              <a:t>Combinarea a două sau mai multe obiecte media (text, video, imagini, audio) pentru a da forma de exprimare a unui conţinut poate asigura înţelegerea mai bine decât un text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6-Point Star 3"/>
          <p:cNvSpPr/>
          <p:nvPr/>
        </p:nvSpPr>
        <p:spPr>
          <a:xfrm rot="587400">
            <a:off x="4800600" y="2361960"/>
            <a:ext cx="4343400" cy="396216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Nu utili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z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ăm elemente multimedia 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“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gratuite</a:t>
            </a:r>
            <a:r>
              <a:rPr b="0" lang="en-US" sz="1800" spc="-1" strike="noStrike">
                <a:solidFill>
                  <a:srgbClr val="000099"/>
                </a:solidFill>
                <a:latin typeface="Georgia"/>
                <a:ea typeface="Arial"/>
              </a:rPr>
              <a:t>”! </a:t>
            </a:r>
            <a:r>
              <a:rPr b="0" lang="ro-RO" sz="1800" spc="-1" strike="noStrike">
                <a:solidFill>
                  <a:srgbClr val="000099"/>
                </a:solidFill>
                <a:latin typeface="Georgia"/>
                <a:ea typeface="Arial"/>
              </a:rPr>
              <a:t>Elementele multimedia trebuie să susţină şi să sporească înţelegerea temei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300" spc="-1" strike="noStrike">
                <a:solidFill>
                  <a:srgbClr val="00cc00"/>
                </a:solidFill>
                <a:latin typeface="Bookman Old Style"/>
              </a:rPr>
              <a:t>2. ARIA DISCIPLINARĂ:</a:t>
            </a:r>
            <a:endParaRPr b="0" lang="en-US" sz="43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6-Point Star 3"/>
          <p:cNvSpPr/>
          <p:nvPr/>
        </p:nvSpPr>
        <p:spPr>
          <a:xfrm rot="1265400">
            <a:off x="4952520" y="2057040"/>
            <a:ext cx="4710240" cy="5110200"/>
          </a:xfrm>
          <a:prstGeom prst="pie">
            <a:avLst/>
          </a:prstGeom>
          <a:solidFill>
            <a:srgbClr val="cccc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Structuraţi informaţia disciplinară de o manieră logică*, dar când veţi opta pentru o anumită strategie </a:t>
            </a:r>
            <a:r>
              <a:rPr b="0" i="1" lang="ro-RO" sz="1800" spc="-1" strike="noStrike">
                <a:solidFill>
                  <a:srgbClr val="003300"/>
                </a:solidFill>
                <a:latin typeface="Arial"/>
              </a:rPr>
              <a:t>uneori </a:t>
            </a:r>
            <a:r>
              <a:rPr b="0" lang="ro-RO" sz="1800" spc="-1" strike="noStrike">
                <a:solidFill>
                  <a:srgbClr val="003300"/>
                </a:solidFill>
                <a:latin typeface="Arial"/>
              </a:rPr>
              <a:t>va trebui să constataţi că o structură “logică” a informaţiei disciplinare nu corespunde cu structura demersului pe care îl proiectaţi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Conţinutul trebuie să coreleze/ susţină/ acopere obiectivele curriculumului pentru elevii vizaţi. </a:t>
            </a:r>
            <a:r>
              <a:rPr b="0" i="1" lang="ro-RO" sz="2800" spc="-1" strike="noStrike">
                <a:solidFill>
                  <a:srgbClr val="000099"/>
                </a:solidFill>
                <a:latin typeface="Arial"/>
              </a:rPr>
              <a:t>Obiectivele softului pe care doriţi să-l proiectaţi sunt definite operaţional? Pe baza lor pot fi elaborate instrumente de evaluare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3. ARIA COMUNICAŢIONALĂ.  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	</a:t>
            </a:r>
            <a:r>
              <a:rPr b="1" lang="ro-RO" sz="3900" spc="-1" strike="noStrike">
                <a:solidFill>
                  <a:srgbClr val="00cc00"/>
                </a:solidFill>
                <a:latin typeface="Bookman Old Style"/>
              </a:rPr>
              <a:t>FORMATUL:</a:t>
            </a:r>
            <a:endParaRPr b="0" lang="en-US" sz="3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Limbajul folosit să corespundă nivelului de pregătire a elevului şi adecvat conţinutulu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Nu folosiţi termeni tehnici decât dacă sunt relevanţi pentru conţinutul disciplina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00"/>
                </a:solidFill>
                <a:latin typeface="Arial"/>
              </a:rPr>
              <a:t>Utilizaţi o formatare standardizată: facilitează preluarea si înţelegerea informaţiei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6:17:35Z</dcterms:created>
  <dc:creator>Adrian</dc:creator>
  <dc:description/>
  <dc:language>en-US</dc:language>
  <cp:lastModifiedBy>Adrian</cp:lastModifiedBy>
  <dcterms:modified xsi:type="dcterms:W3CDTF">2010-10-23T19:50:56Z</dcterms:modified>
  <cp:revision>54</cp:revision>
  <dc:subject/>
  <dc:title>Slide 1</dc:title>
</cp:coreProperties>
</file>